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C77-7F0D-483D-AA6D-42426660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F4F-F349-4A48-81A6-C622EBEA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7C9-A035-41F2-B1CD-BBBDE4C1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FBA-8BD2-467D-86B5-F5D4CA3D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4C6C-623E-4AB5-8191-87F2B1EB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AB3D-E697-4062-A170-94AF4365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4DD1-F977-4D0D-8F14-7F35E596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1C20-07B9-42CC-9801-371B5C7A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2875-1ED4-4AC0-8F93-38B949CB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4196-C046-4686-A063-3289D83A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5970-4ED6-468D-AE7F-7E2B123E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B1E-2A96-4121-9084-27BC3809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1398-7E34-4780-842D-BC23A995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6405-C2C9-4258-BEB0-63578831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0508-4067-47EB-A64E-D313260F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4AA2-D127-4E4B-9962-18ECBD8E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A0A5-717B-4014-9CF2-69DA4F4C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FF4-1B22-471F-A180-EBC943BF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E9C-C4C3-4F48-962D-385311BD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66D-B6AB-4450-9E83-3C5C03F6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10B-0D9D-4248-A005-92EB6FEB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69E-EB0E-4C24-ABDE-B10F803F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EBB-8192-4D94-8A36-5CCEE98C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649-B730-4F9C-86E3-3BDF91BE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C58A-2DB2-47FA-8056-C841D1D432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EF44-66C8-43BF-830A-3B7DBDF1F5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65360" y="304920"/>
            <a:ext cx="39117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5240" y="457200"/>
            <a:ext cx="3971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7840" y="1219320"/>
            <a:ext cx="823896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Union’s Strategy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99200" cy="4508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06560" y="6248520"/>
            <a:ext cx="208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pbs.org/civilwar/war/map2.htm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03240" y="838080"/>
            <a:ext cx="71740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Black"/>
              </a:rPr>
              <a:t>Union’s Strategy - Mississippi River</a:t>
            </a:r>
            <a:endParaRPr b="1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706560" y="6248520"/>
            <a:ext cx="208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pbs.org/civilwar/war/map2.htm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8480" y="1905120"/>
            <a:ext cx="6286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63960" y="457200"/>
            <a:ext cx="2784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87360" y="609480"/>
            <a:ext cx="663732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229600" cy="5475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21800" y="6324480"/>
            <a:ext cx="233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americancivilwar.com/statepic/cwusa.htm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22:46:21Z</dcterms:created>
  <dc:creator> Todd Fibus</dc:creator>
  <dc:description/>
  <dc:language>en-US</dc:language>
  <cp:lastModifiedBy>YHS Teacher</cp:lastModifiedBy>
  <dcterms:modified xsi:type="dcterms:W3CDTF">2009-01-30T13:39:16Z</dcterms:modified>
  <cp:revision>8</cp:revision>
  <dc:subject/>
  <dc:title>Slide 1</dc:title>
</cp:coreProperties>
</file>